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8AA-D1B2-4A8B-99F8-D42BDD5F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B9C-16C9-459B-A5BA-E8CFA825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B2B-0707-4C9D-B4C3-F3D56B00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8FF-C07C-4B1A-9CF4-313821D2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C6C-FDAC-4281-8635-878C16FE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A82-94D4-407D-851F-53B6AA76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C58-BA91-4946-9D1A-C10E258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84F-5DFE-419D-AA54-B0D4CC36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4C2-81E4-4C96-B6A0-1B19788D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66C-228F-4A87-8E9C-3CFC861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519-AF90-4471-8154-4A6E292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B0B-E665-4CD6-8CF0-70842E96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C8F4-11FF-441C-8A36-820CA8A26AB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5 Tebe, Pane, odovzd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be, Pane, odovzd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verím život s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tiesni každej dávaš nád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íšiš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ďku žitia môjho ve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úrnym morom útrap, bie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brehom mieru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už vier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á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íboj krutý neraz nú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eniť plavby sm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 tvojho Slova čujem znova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boj sa, len 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ma tiesni nástrah s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už sily vo mne ni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ocou Slova nádej nov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áva viere vzl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spásy cieľu, Spasit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rak svoj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de je čistá radosť 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svoj domov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láskou prijmi biedn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yna márnotratné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 ťa chváliť, vďačne sláv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ána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ého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56:00Z</dcterms:modified>
  <cp:revision>24</cp:revision>
  <dc:subject/>
  <dc:title>Je veľký náš Pán, on slávy je Kráľ Nech do všetkých strán  spev vrúcnych znie chvál.</dc:title>
</cp:coreProperties>
</file>